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amera.wav" ContentType="audio/x-wav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3D2-ED22-4C70-AC6C-B3E4A2BF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B4D-B76B-427E-881E-EBAD8D6C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784-745D-4CA6-8415-0D14A84C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DE7-1A47-443C-9C36-EEF6E634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98C-39DE-42E8-B0D7-6D9222D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BAA-E636-407C-997C-762C4A64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77B-D5DB-4A3E-B5C2-672C6327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ADF-0D5B-4F59-9C5B-21668E89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39D-2B02-4BF7-B526-F4CFB1AB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55C-F9A2-4252-806A-8D43DB5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18F-4948-4CD3-9FE9-966BCD6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B6E-062C-41D8-9555-DE568495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5C8E-2480-417D-882F-92AF211A5E6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1052640"/>
            <a:ext cx="7307280" cy="2854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mentario crític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 las prueb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 Selectivida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8" descr="20070121223551-devoir"/>
          <p:cNvPicPr/>
          <p:nvPr/>
        </p:nvPicPr>
        <p:blipFill>
          <a:blip r:embed="rId1"/>
          <a:stretch/>
        </p:blipFill>
        <p:spPr>
          <a:xfrm>
            <a:off x="826920" y="4005360"/>
            <a:ext cx="1354320" cy="165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Modelos de estruc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35798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Deduc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Induc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Encuadr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Enumera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Secuenc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Comparación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    </a:t>
            </a: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contras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Problema/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Tormenta de ideas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19640" y="1557360"/>
            <a:ext cx="3495600" cy="1465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Muchos autores, especialmente los más academicistas, componen sus textos según uno de estos modelos ya tradi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148360" y="357336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Verdana"/>
                <a:ea typeface="Arial"/>
              </a:rPr>
              <a:t>Las diferencias entre ellos a veces no son obje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219640" y="4365720"/>
            <a:ext cx="3457800" cy="1618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Varios modelos de estructura podrían ser aplicables a un mismo texto, siempre que se justifique razonadam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  <p:sndAc>
      <p:stSnd>
        <p:snd r:embed="rId9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Deduc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523880" y="2590920"/>
            <a:ext cx="6096240" cy="1523880"/>
          </a:xfrm>
          <a:prstGeom prst="bevel">
            <a:avLst>
              <a:gd name="adj" fmla="val 125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Verdana"/>
                <a:ea typeface="Arial"/>
              </a:rPr>
              <a:t>Idea princip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5257800" y="4267080"/>
            <a:ext cx="1447920" cy="1752840"/>
            <a:chOff x="5257800" y="4267080"/>
            <a:chExt cx="1447920" cy="1752840"/>
          </a:xfrm>
        </p:grpSpPr>
        <p:sp>
          <p:nvSpPr>
            <p:cNvPr id="77" name="AutoShape 5"/>
            <p:cNvSpPr/>
            <p:nvPr/>
          </p:nvSpPr>
          <p:spPr>
            <a:xfrm flipH="1">
              <a:off x="525780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 rot="15351600">
              <a:off x="5381280" y="49546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6553080" y="4267080"/>
            <a:ext cx="1447920" cy="1752840"/>
            <a:chOff x="6553080" y="4267080"/>
            <a:chExt cx="1447920" cy="1752840"/>
          </a:xfrm>
        </p:grpSpPr>
        <p:sp>
          <p:nvSpPr>
            <p:cNvPr id="80" name="AutoShape 8"/>
            <p:cNvSpPr/>
            <p:nvPr/>
          </p:nvSpPr>
          <p:spPr>
            <a:xfrm flipH="1">
              <a:off x="655308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9"/>
            <p:cNvSpPr/>
            <p:nvPr/>
          </p:nvSpPr>
          <p:spPr>
            <a:xfrm rot="15351600">
              <a:off x="6676560" y="49546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10"/>
          <p:cNvGrpSpPr/>
          <p:nvPr/>
        </p:nvGrpSpPr>
        <p:grpSpPr>
          <a:xfrm>
            <a:off x="2438280" y="4267080"/>
            <a:ext cx="1447920" cy="1752840"/>
            <a:chOff x="2438280" y="4267080"/>
            <a:chExt cx="1447920" cy="1752840"/>
          </a:xfrm>
        </p:grpSpPr>
        <p:sp>
          <p:nvSpPr>
            <p:cNvPr id="83" name="AutoShape 11"/>
            <p:cNvSpPr/>
            <p:nvPr/>
          </p:nvSpPr>
          <p:spPr>
            <a:xfrm>
              <a:off x="243828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12"/>
            <p:cNvSpPr/>
            <p:nvPr/>
          </p:nvSpPr>
          <p:spPr>
            <a:xfrm rot="16954200">
              <a:off x="2561760" y="4955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13"/>
          <p:cNvGrpSpPr/>
          <p:nvPr/>
        </p:nvGrpSpPr>
        <p:grpSpPr>
          <a:xfrm>
            <a:off x="1143000" y="4267080"/>
            <a:ext cx="1447920" cy="1752840"/>
            <a:chOff x="1143000" y="4267080"/>
            <a:chExt cx="1447920" cy="1752840"/>
          </a:xfrm>
        </p:grpSpPr>
        <p:sp>
          <p:nvSpPr>
            <p:cNvPr id="86" name="AutoShape 14"/>
            <p:cNvSpPr/>
            <p:nvPr/>
          </p:nvSpPr>
          <p:spPr>
            <a:xfrm>
              <a:off x="114300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15"/>
            <p:cNvSpPr/>
            <p:nvPr/>
          </p:nvSpPr>
          <p:spPr>
            <a:xfrm rot="16954200">
              <a:off x="1265040" y="4955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6"/>
          <p:cNvGrpSpPr/>
          <p:nvPr/>
        </p:nvGrpSpPr>
        <p:grpSpPr>
          <a:xfrm>
            <a:off x="3733920" y="4266720"/>
            <a:ext cx="1676160" cy="1752840"/>
            <a:chOff x="3733920" y="4266720"/>
            <a:chExt cx="1676160" cy="1752840"/>
          </a:xfrm>
        </p:grpSpPr>
        <p:sp>
          <p:nvSpPr>
            <p:cNvPr id="89" name="AutoShape 17"/>
            <p:cNvSpPr/>
            <p:nvPr/>
          </p:nvSpPr>
          <p:spPr>
            <a:xfrm flipV="1">
              <a:off x="3733920" y="4266360"/>
              <a:ext cx="1676160" cy="1752840"/>
            </a:xfrm>
            <a:custGeom>
              <a:avLst/>
              <a:gdLst>
                <a:gd name="textAreaLeft" fmla="*/ 325440 w 1676160"/>
                <a:gd name="textAreaRight" fmla="*/ 1350720 w 1676160"/>
                <a:gd name="textAreaTop" fmla="*/ 341280 h 1752840"/>
                <a:gd name="textAreaBottom" fmla="*/ 141156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806" y="21600"/>
                  </a:lnTo>
                  <a:lnTo>
                    <a:pt x="167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8"/>
            <p:cNvSpPr/>
            <p:nvPr/>
          </p:nvSpPr>
          <p:spPr>
            <a:xfrm rot="16200000">
              <a:off x="4009680" y="495360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d"/>
    <p:sndAc>
      <p:stSnd>
        <p:snd r:embed="rId1" name="camera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Induc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981080" y="4572000"/>
            <a:ext cx="6096240" cy="1523880"/>
          </a:xfrm>
          <a:prstGeom prst="irregularSeal1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Verdana"/>
                <a:ea typeface="Arial"/>
              </a:rPr>
              <a:t>Idea princip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4"/>
          <p:cNvSpPr/>
          <p:nvPr/>
        </p:nvSpPr>
        <p:spPr>
          <a:xfrm rot="3325200">
            <a:off x="1447200" y="2514240"/>
            <a:ext cx="1905120" cy="221004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552600 h 2210040"/>
              <a:gd name="textAreaBottom" fmla="*/ 1657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f81bd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4f81bd"/>
                </a:solidFill>
                <a:latin typeface="Verdana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5"/>
          <p:cNvSpPr/>
          <p:nvPr/>
        </p:nvSpPr>
        <p:spPr>
          <a:xfrm rot="5400000">
            <a:off x="3886200" y="1752480"/>
            <a:ext cx="1904760" cy="220968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552240 h 2209680"/>
              <a:gd name="textAreaBottom" fmla="*/ 1657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7c8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ff7c8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 flipH="1" rot="18274800">
            <a:off x="6323040" y="2514240"/>
            <a:ext cx="1905120" cy="220968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552240 h 2209680"/>
              <a:gd name="textAreaBottom" fmla="*/ 1657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ff66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  <p:sndAc>
      <p:stSnd>
        <p:snd r:embed="rId1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Encuadr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187280" y="1125360"/>
            <a:ext cx="6629400" cy="4496040"/>
          </a:xfrm>
          <a:custGeom>
            <a:avLst/>
            <a:gdLst>
              <a:gd name="textAreaLeft" fmla="*/ 1657440 w 6629400"/>
              <a:gd name="textAreaRight" fmla="*/ 4971960 w 6629400"/>
              <a:gd name="textAreaTop" fmla="*/ 1123920 h 4496040"/>
              <a:gd name="textAreaBottom" fmla="*/ 3372120 h 4496040"/>
            </a:gdLst>
            <a:ahLst/>
            <a:rect l="textAreaLeft" t="textAreaTop" r="textAreaRight" b="textAreaBottom"/>
            <a:pathLst>
              <a:path w="31851" h="21600">
                <a:moveTo>
                  <a:pt x="0" y="0"/>
                </a:moveTo>
                <a:lnTo>
                  <a:pt x="0" y="21600"/>
                </a:lnTo>
                <a:lnTo>
                  <a:pt x="31851" y="21600"/>
                </a:lnTo>
                <a:lnTo>
                  <a:pt x="31851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6451" y="16200"/>
                </a:lnTo>
                <a:lnTo>
                  <a:pt x="26451" y="5400"/>
                </a:lnTo>
                <a:close/>
              </a:path>
            </a:pathLst>
          </a:custGeom>
          <a:solidFill>
            <a:srgbClr val="d8ec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92320" y="148428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eece1"/>
                </a:solidFill>
                <a:latin typeface="Verdana"/>
                <a:ea typeface="Arial"/>
              </a:rPr>
              <a:t>Tema, ley, tesis, idea principal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51120" y="4653000"/>
            <a:ext cx="526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eece1"/>
                </a:solidFill>
                <a:latin typeface="Verdana"/>
                <a:ea typeface="Arial"/>
              </a:rPr>
              <a:t>Reelaboración del tema, la ley,</a:t>
            </a:r>
            <a:br>
              <a:rPr sz="2800"/>
            </a:br>
            <a:r>
              <a:rPr b="0" lang="es-ES" sz="2800" spc="-1" strike="noStrike">
                <a:solidFill>
                  <a:srgbClr val="eeece1"/>
                </a:solidFill>
                <a:latin typeface="Verdana"/>
                <a:ea typeface="Arial"/>
              </a:rPr>
              <a:t>la tesis o la idea p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484360" y="3860640"/>
            <a:ext cx="3942000" cy="5097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Verdana"/>
                <a:ea typeface="Arial"/>
              </a:rPr>
              <a:t>Casos concre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484360" y="2852640"/>
            <a:ext cx="3942000" cy="5097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Arial"/>
              </a:rPr>
              <a:t>Da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484360" y="2349360"/>
            <a:ext cx="3942000" cy="509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ffcc"/>
                </a:solidFill>
                <a:latin typeface="Verdana"/>
                <a:ea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484360" y="3357720"/>
            <a:ext cx="3942000" cy="509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Verdana"/>
                <a:ea typeface="Arial"/>
              </a:rPr>
              <a:t>Hech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  <p:sndAc>
      <p:stSnd>
        <p:snd r:embed="rId1" name="camera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Un ejemplo de estructura de un text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Calibri"/>
              </a:rPr>
              <a:t>I. </a:t>
            </a: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Presentación del problema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(párrafo 1º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.1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Efectos negativos del ruido para la salud (sordera, cefalea, irritabilidad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.2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Grado de contaminación acústica en Españ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.3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Noticia que origina el comentario sobre el ruido: sentencia del Tribunal constitucional qu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desestima el amparo solicitado por el propietario de un pub de Gijón condenado por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molestar a sus vecinos con el ruido a altas hora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Calibri"/>
              </a:rPr>
              <a:t>II.</a:t>
            </a: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 Solución: nacimiento de la Ley del Ruido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(párrafo 2º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.1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Causa: retraso legislativo sobre la materi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.2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Características de la Le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.3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Nace en 200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.4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Obliga a elaborar mapas acústico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Calibri"/>
              </a:rPr>
              <a:t>III.</a:t>
            </a: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 Necesidad de aplicar la ley (tesis):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(párrafo 3º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I.1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Porque no se está aplicando en la actualidad: siguen existiendo obras ruidosas, camiones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pirotecnia… (argumento de hecho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I.2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Por los efectos positivos de su aplicación: la inteligencia humana es inversament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proporcional a la capacidad para soportar el ruido (Shopenhauer,  argumento d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autorida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00"/>
                </a:solidFill>
                <a:latin typeface="Arial"/>
              </a:rPr>
              <a:t>Para completar la pregunta de la organización de las ideas del texto comentamos el tipo de estructura: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759040"/>
            <a:ext cx="8013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mo se observa, se trata de un texto que presenta un tipo de estructura claramente inductiva, pues comienza con los datos concretos y termina con la enunciación de la tesi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4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s-ES" sz="3400" spc="-1" strike="noStrike">
                <a:solidFill>
                  <a:srgbClr val="ff3300"/>
                </a:solidFill>
                <a:latin typeface="Arial"/>
              </a:rPr>
              <a:t>Ideas generales</a:t>
            </a:r>
            <a:br>
              <a:rPr sz="3400"/>
            </a:br>
            <a:r>
              <a:rPr b="0" lang="es-ES" sz="3400" spc="-1" strike="noStrike">
                <a:solidFill>
                  <a:srgbClr val="ff3300"/>
                </a:solidFill>
                <a:latin typeface="Arial"/>
              </a:rPr>
              <a:t> sobre el comentario crítico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El comentario crítico debe servir para </a:t>
            </a: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demostrar la madurez y la capacidad de reflexión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del alum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Debe estar escrito con </a:t>
            </a: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corrección ortográfica, léxica y gramatical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Debemos poner especial atención en su realización, pues las preguntas referentes al texto suman en total </a:t>
            </a: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6 puntos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1A0B-30D1-44DB-9760-94F6AD21FC0E}" type="slidenum">
              <a:rPr b="1" lang="es-ES" sz="1200" spc="-1" strike="noStrike">
                <a:solidFill>
                  <a:srgbClr val="eeece1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8" descr="GraduaciónGuiño"/>
          <p:cNvPicPr/>
          <p:nvPr/>
        </p:nvPicPr>
        <p:blipFill>
          <a:blip r:embed="rId1"/>
          <a:stretch/>
        </p:blipFill>
        <p:spPr>
          <a:xfrm>
            <a:off x="6751800" y="3263760"/>
            <a:ext cx="2070000" cy="2319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2235240" y="4765680"/>
            <a:ext cx="3700440" cy="406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71360" y="3860640"/>
            <a:ext cx="165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omentario</a:t>
            </a:r>
            <a:br>
              <a:rPr sz="2000"/>
            </a:b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de tex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1835280" y="3357720"/>
            <a:ext cx="258480" cy="1800000"/>
          </a:xfrm>
          <a:custGeom>
            <a:avLst/>
            <a:gdLst>
              <a:gd name="textAreaLeft" fmla="*/ 165240 w 258480"/>
              <a:gd name="textAreaRight" fmla="*/ 258840 w 2584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332080" y="3308400"/>
            <a:ext cx="28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1ª parte:</a:t>
            </a:r>
            <a:r>
              <a:rPr b="0" lang="es-ES" sz="2000" spc="-1" strike="noStrike">
                <a:solidFill>
                  <a:srgbClr val="eeece1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              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de las ideas</a:t>
            </a:r>
            <a:r>
              <a:rPr b="0" lang="es-ES" sz="2000" spc="-1" strike="noStrike">
                <a:solidFill>
                  <a:srgbClr val="eeece1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07960" y="3933720"/>
            <a:ext cx="18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2ª parte:</a:t>
            </a:r>
            <a:r>
              <a:rPr b="0" lang="es-ES" sz="2000" spc="-1" strike="noStrike">
                <a:solidFill>
                  <a:srgbClr val="eeece1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te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293560" y="427356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3ª parte:</a:t>
            </a:r>
            <a:r>
              <a:rPr b="0" lang="es-ES" sz="2000" spc="-1" strike="noStrike">
                <a:solidFill>
                  <a:srgbClr val="eeece1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330640" y="4756320"/>
            <a:ext cx="34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4ª parte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omentario crí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58840" y="5940360"/>
            <a:ext cx="8559720" cy="383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cc"/>
                </a:solidFill>
                <a:latin typeface="Verdana"/>
                <a:ea typeface="Arial"/>
              </a:rPr>
              <a:t>evita repetir al pie de la letra lo ya dicho en las preguntas anterior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042920" y="260280"/>
            <a:ext cx="727416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Calibri"/>
                <a:ea typeface="Arial"/>
              </a:rPr>
              <a:t>El comentario de texto de la prueba de Selectividad consta de una serie de apartados: organización de las ideas o estructura, tema, resumen y comentario crítico propiamente dic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7040" y="5524560"/>
            <a:ext cx="8556840" cy="425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aben alusiones a lo anterior, ampliaciones, matizaciones…  P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5003640" y="1844640"/>
            <a:ext cx="2598840" cy="1204920"/>
          </a:xfrm>
          <a:prstGeom prst="wedgeRoundRectCallout">
            <a:avLst>
              <a:gd name="adj1" fmla="val 58185"/>
              <a:gd name="adj2" fmla="val 114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ues, yo lo hice sin que se notara mucho… y col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262080" y="5915160"/>
            <a:ext cx="1639800" cy="479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6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6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6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6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C -0.02413 0.02775 -0.05278 0.05457 -0.08385 0.05942 C -0.11458 0.06428 -0.16458 0.01965 -0.18628 0.02844 C -0.20816 0.03699 -0.20885 0.09503 -0.21441 0.1126 E">
                                      <p:cBhvr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7" repeatCount="7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ff3300"/>
                </a:solidFill>
                <a:latin typeface="Arial"/>
              </a:rPr>
              <a:t>Veamos los diversos apartados del comentario crítico con más detenimiento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2920" y="299736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3300"/>
                </a:solidFill>
                <a:latin typeface="Calibri"/>
              </a:rPr>
              <a:t>1,5 pun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cc"/>
                </a:solidFill>
                <a:latin typeface="Calibri"/>
              </a:rPr>
              <a:t>Primera pregunta del examen de Selectivid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Organización de las ide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o estructura inter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3600" spc="-1" strike="noStrike">
                <a:solidFill>
                  <a:srgbClr val="0000cc"/>
                </a:solidFill>
                <a:latin typeface="Calibri"/>
              </a:rPr>
              <a:t>Es la enunciación de las ideas fundamentales y secundarias del texto vertebradas,  jerarquizadas y representadas gráficam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00"/>
                </a:solidFill>
                <a:latin typeface="Arial"/>
              </a:rPr>
              <a:t>Aspectos que debemos tener en cuent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Primero hay que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leer detenidamente  y de forma comprensiva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el texto cuantas veces sea necesario (consultar diccionari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Debemos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subrayar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las palabras clave y las ideas principa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70020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No subrayar muc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70020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No subrayar lo secundario (fechas, ejempl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70020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El subrayado debe mantener la coherencia del tex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Hay que tener en cuenta la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estructura externa 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del texto (apartados, párrafos…) pues en un texto bien construido la estructura externa y la organización de las ideas (estructura interna) están íntimamente relacionadas. Los </a:t>
            </a:r>
            <a:r>
              <a:rPr b="0" lang="es-ES" sz="2100" spc="-1" strike="noStrike" u="sng">
                <a:solidFill>
                  <a:srgbClr val="0000cc"/>
                </a:solidFill>
                <a:uFillTx/>
                <a:latin typeface="Calibri"/>
              </a:rPr>
              <a:t>conectores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 servirán de apoyo para la realización del esquema de la estructur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Hay que enunciar  las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ideas de forma jerarquizada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, no lineal  (deben de agruparse las que contengan el mismo concepto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Debe dividirse el texto en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pocas partes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: dos o tres y cada una podrá subdividirse a su vez  (mantener la estructura de lo general a lo particular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Deben utilizarse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los  sangrados 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para representar la jerarquía de ide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La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enunciación de las ideas 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tiene que ser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precisa y clara  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mediante una frase corta, preferiblemente sin verbo, como si fuera el tema de cada aparta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cc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Puede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xplicarse cada apartado 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, pero muy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brevement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e y solo si hay necesidad, porque si no la explicación de la organización de las ideas se convertiría prácticamente en un resumen.</a:t>
            </a:r>
            <a:br>
              <a:rPr sz="2400"/>
            </a:b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buClr>
                <a:srgbClr val="0000cc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Deben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specificarse las líneas o los versos que ocupa cada parte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del tex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buClr>
                <a:srgbClr val="0000cc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A veces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, se puede distinguir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con claridad un tipo de estructura 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determinada (inductiva, deductiva, encuadrada…) y en ese caso debemos comentarla. Recordemos las más frecu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9:00:52Z</dcterms:created>
  <dc:creator>Usuario</dc:creator>
  <dc:description/>
  <dc:language>en-US</dc:language>
  <cp:lastModifiedBy>Usuario</cp:lastModifiedBy>
  <dcterms:modified xsi:type="dcterms:W3CDTF">2013-10-27T19:10:11Z</dcterms:modified>
  <cp:revision>2</cp:revision>
  <dc:subject/>
  <dc:title>Diapositiva 1</dc:title>
</cp:coreProperties>
</file>